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CA35-A673-485F-9ACA-7AF35DFA5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B85B-EA73-43B4-A4CA-CD9DA4DA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6BD6-DC5B-479F-8FB5-F86A45093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2336-643F-44DE-9CC2-B0411A82F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ADCC-5C6A-4DEB-89CE-0C50F1035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34A1-74B2-4205-BF1B-20F50476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D9E5-BB94-4E6A-A784-1F032E79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827A-23F3-425C-9722-161F9046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4228-B91F-493D-8EB2-4B7E17D2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D7AF-766B-4FCF-96F3-23F91EA3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95CC-3042-4A9A-95D3-AE3172AA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6DB1-0B09-404A-869E-669B7819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7F42-62B7-4674-8E6D-DA3B1DE8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7B71-3863-478A-988F-F891CFAA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10EE-C204-4FBE-93F9-A9BCDAA6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4FCB-2619-4765-B835-31130CB4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A8EC-1C8F-4756-ACA4-EA399D2DE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0A20-951E-4B05-84B7-5D446B13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1BF6-ACC0-4C02-86AF-ED578E61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9CD9-67F1-4A9E-B7BC-82F446C2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B1DA-13F0-456A-9069-975E548E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FD39-D29B-4191-9A6B-766FCBC4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066B-4F44-4DA2-9BC7-BB6ED7B4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0103-08BC-4104-91B2-300D1BDE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A319-7B12-4071-A95D-FDE96C41E1AF}" type="slidenum">
              <a:rPr b="0" lang="en-US" sz="1200" spc="-1" strike="noStrike">
                <a:solidFill>
                  <a:srgbClr val="bcbcb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650B-3D45-48CB-9756-8BEC80D0BCF0}" type="slidenum">
              <a:rPr b="0" lang="en-US" sz="1200" spc="-1" strike="noStrike">
                <a:solidFill>
                  <a:srgbClr val="bcbcb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hyperlink" Target="http://www.ucalgary.ca/honesty/" TargetMode="External"/><Relationship Id="rId4" Type="http://schemas.openxmlformats.org/officeDocument/2006/relationships/hyperlink" Target="http://www.ucalgary.ca/pubs/calendar/2007/how/How_LB.htm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11" descr=""/>
          <p:cNvPicPr/>
          <p:nvPr/>
        </p:nvPicPr>
        <p:blipFill>
          <a:blip r:embed="rId2"/>
          <a:stretch/>
        </p:blipFill>
        <p:spPr>
          <a:xfrm>
            <a:off x="414360" y="1365120"/>
            <a:ext cx="8242200" cy="1841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49080" y="3809520"/>
            <a:ext cx="6032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hreya Raw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mail: srawal@ucalgary.c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 Antiqua"/>
              </a:rPr>
              <a:t>All the work you submit must be original, and developed by you. If in doubt, check the U of C's honesty policy: </a:t>
            </a:r>
            <a:r>
              <a:rPr b="0" lang="en-GB" sz="24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www.ucalgary.ca/honesty/</a:t>
            </a:r>
            <a:r>
              <a:rPr b="0" lang="en-GB" sz="2400" spc="-1" strike="noStrike">
                <a:solidFill>
                  <a:srgbClr val="ffffff"/>
                </a:solidFill>
                <a:latin typeface="Book Antiqua"/>
              </a:rPr>
              <a:t> and check with your TA. Also be aware of U of C's definitions of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</a:rPr>
              <a:t>Plagiarism/Cheating/Other Academic Misconduct</a:t>
            </a:r>
            <a:r>
              <a:rPr b="0" lang="en-GB" sz="2400" spc="-1" strike="noStrike">
                <a:solidFill>
                  <a:srgbClr val="ffffff"/>
                </a:solidFill>
                <a:latin typeface="Book Antiqua"/>
              </a:rPr>
              <a:t> and the penalties and procedures associated with incidents of Plagiarism/Cheating/Other Academic Misconduct: </a:t>
            </a:r>
            <a:r>
              <a:rPr b="0" lang="en-GB" sz="24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http://www.ucalgary.ca/pubs/calendar/2007/how/How_LB.htm</a:t>
            </a:r>
            <a:r>
              <a:rPr b="0" lang="en-GB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2"/>
          <a:stretch/>
        </p:blipFill>
        <p:spPr>
          <a:xfrm>
            <a:off x="682560" y="146160"/>
            <a:ext cx="6881760" cy="2359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4400" spc="-1" strike="noStrike">
                <a:solidFill>
                  <a:srgbClr val="c9c2d1"/>
                </a:solidFill>
                <a:latin typeface="Book Antiqua"/>
              </a:rPr>
              <a:t>Deadline: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9c2d1"/>
                </a:solidFill>
                <a:latin typeface="Book Antiqua"/>
              </a:rPr>
              <a:t>February 23</a:t>
            </a:r>
            <a:r>
              <a:rPr b="0" lang="en-GB" sz="2800" spc="-1" strike="noStrike" baseline="30000">
                <a:solidFill>
                  <a:srgbClr val="c9c2d1"/>
                </a:solidFill>
                <a:latin typeface="Book Antiqua"/>
              </a:rPr>
              <a:t>rd</a:t>
            </a:r>
            <a:r>
              <a:rPr b="0" lang="en-GB" sz="2800" spc="-1" strike="noStrike">
                <a:solidFill>
                  <a:srgbClr val="c9c2d1"/>
                </a:solidFill>
                <a:latin typeface="Book Antiqua"/>
              </a:rPr>
              <a:t> 2009, 11:59 pm</a:t>
            </a: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To create a dashboard in Excel that summarizes the complex statistical data collecte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Use file: ClassSurvey-Jalal.x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1. To practice good spreadsheet design principles as given in the class lecture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2. To introduce you to a realistic data analysis exercise using spreadsheet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3. To allow you to design an information dashboard summarizing a large number of fields into a few informative chart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ill in the following tabs: Introduction, Model, Data Dictionary. The model tab must include a rationale for the calculated fields you create, summary statistics, and dashboard design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dd to the Data Tab: New calculated fields and new summary statistics calculations. For top marks you must create a new calculated field using either an “If” or a “Lookup” function. Make sure it is clear what is “Raw Data”, what are “Calculated Variables” and what are “Summary Calculations”.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dd to the Dashboard tab: 3 charts you have designed to summarize the data with appropriate titles, legends, and annotations. Include on the Dashboard tab a section where in a few sentences you interpret each chart. Make your information dashboard as clear, concise, and informative as possible, using good visual design principles.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formation Dashboard Design by Stephen Few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isual Display of Qualitative Information by Edward Tuft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elements of Graphing Data by William Cleveland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This assignment is worth 8% of your final grade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10082"/>
                </a:solidFill>
                <a:latin typeface="Book Antiqua"/>
              </a:rPr>
              <a:t>     </a:t>
            </a:r>
            <a:r>
              <a:rPr b="0" lang="en-GB" sz="2000" spc="-1" strike="noStrike">
                <a:solidFill>
                  <a:srgbClr val="410082"/>
                </a:solidFill>
                <a:latin typeface="Book Antiqua"/>
              </a:rPr>
              <a:t>Grading: 100 Points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Introduction, Model and Data Dictionary Tabs – </a:t>
            </a:r>
            <a:r>
              <a:rPr b="0" lang="en-GB" sz="2000" spc="-1" strike="noStrike">
                <a:solidFill>
                  <a:srgbClr val="410082"/>
                </a:solidFill>
                <a:latin typeface="Book Antiqua"/>
              </a:rPr>
              <a:t>30 points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Design and Clarity of the Data and Dashboard tabs –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       </a:t>
            </a:r>
            <a:r>
              <a:rPr b="0" lang="en-GB" sz="2000" spc="-1" strike="noStrike">
                <a:solidFill>
                  <a:srgbClr val="410082"/>
                </a:solidFill>
                <a:latin typeface="Book Antiqua"/>
              </a:rPr>
              <a:t>30 points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Accuracy of all calculations – </a:t>
            </a:r>
            <a:r>
              <a:rPr b="0" lang="en-GB" sz="2000" spc="-1" strike="noStrike">
                <a:solidFill>
                  <a:srgbClr val="410082"/>
                </a:solidFill>
                <a:latin typeface="Book Antiqua"/>
              </a:rPr>
              <a:t>20 points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Originality – </a:t>
            </a:r>
            <a:r>
              <a:rPr b="0" lang="en-GB" sz="2000" spc="-1" strike="noStrike">
                <a:solidFill>
                  <a:srgbClr val="410082"/>
                </a:solidFill>
                <a:latin typeface="Book Antiqua"/>
              </a:rPr>
              <a:t>10 points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Comprehensiveness – </a:t>
            </a:r>
            <a:r>
              <a:rPr b="0" lang="en-GB" sz="2000" spc="-1" strike="noStrike">
                <a:solidFill>
                  <a:srgbClr val="410082"/>
                </a:solidFill>
                <a:latin typeface="Book Antiqua"/>
              </a:rPr>
              <a:t>10 point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Note – by “comprehensiveness” what is meant is designing the dashboard so it reflects as much of the raw data as possible in a few clear and informative chart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1" lang="en-GB" sz="2800" spc="-1" strike="noStrike">
                <a:solidFill>
                  <a:srgbClr val="ffffff"/>
                </a:solidFill>
                <a:latin typeface="Book Antiqua"/>
              </a:rPr>
              <a:t>Name the assignment file:</a:t>
            </a: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Assign1_LastName_FirstName_StudentID.xl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You may use Excel, Open Office Spreadsheet, or Google Spreadsheet &amp; Docs – but must submit an .xls fil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reya Rawal</cp:lastModifiedBy>
  <dcterms:modified xsi:type="dcterms:W3CDTF">2009-01-26T17:16:1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